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0BD0-ADA4-465C-99B7-0FEED631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DFD9E-904A-4F29-9017-B26A9F5C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060A6-B4C2-4A6D-80D6-1B6A7E96DD1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FB93E-56AA-4F24-A64F-E1671C4382C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7CBFF-9297-4857-9069-D5837B69622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F8937-1764-4B53-8C2F-77CAB95CD57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0CCB5-03BD-4D00-944A-49224D7A9D4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4AC13-A010-472F-B72A-B65D3E1D7C1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929DA-7396-4809-AD1C-89BC7458016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0ECFB-723C-4233-8014-B34F44C4A0C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283E3-BB1B-42D6-BF57-D0C8A449FEB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3D27F4-1350-432A-B65A-92B48266F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B8E71-94B9-4B69-A18A-70EAF62A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3E29F8-8EFE-415C-8E1C-3E250B3506A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E939B0-7831-407E-9D5C-57A971D3F75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945F6E-1FC9-4178-A944-AB00D2EFD98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31F4F0-9B5E-4E3A-B0F1-066A8A5BC1E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3451DC-F16B-4748-AA2E-DAB53974F17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40E064-C616-4411-8A4D-53C4DAC8EC4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EB69C4-BC51-41B0-A935-9A7233210EB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CE0CBE-933A-4EE9-B618-AD1AFF5AC74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80687F-5DC4-447B-ADBD-2FFF0D5D6E3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3BD715-38EB-41F4-9280-BD0C1707E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10F0-8AE6-40EA-976B-23A07554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80D9B2-4169-4DE8-A1FA-F5732B41D8B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611C2-B7B8-41C0-A43E-6FCBC197E13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9E00C-9F1E-43CC-BECD-ED633EE3283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C0172-A0E8-425C-A319-6F238EB5947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87FF7-FBD7-4FB7-AFBA-05DADE6B1DB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0182A-0375-4510-812C-65DB90BD407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B4DA4-E225-49E1-8B4A-A1DBA8BC28D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38F9F-538C-4EC6-B221-F1A950EB5E2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6AF43-D6E1-42F5-8B49-DA422206FDC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0F95C-A032-44DA-958E-8940C4731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082D8-C93D-49A2-B254-2AA85DBB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DFCA9-E526-4103-8EDF-49A9C1AD06C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6777A-8C5B-46CB-BE27-21E8CD9F6CE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F311D-C991-4ED0-9663-93F7ACC60CE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C87D55-A820-41E2-935D-3B4C7796683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EFAEC5-0FD0-45ED-BC5E-32138D67370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C85B39-FF51-4214-9A2A-68C4E044D6C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662BD6-5A99-4336-BA79-0115D4DD12B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BC7A99-CD7F-4B3B-B3F0-EEAE54B451E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FD30E0-9727-474D-9D6D-56CFEB1AE08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733BA4-7DF7-41E2-B74D-9C7B2A840D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C7513-FF22-41DF-8177-6E9DF844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B5D4C1-4BA6-4E16-AA66-3D827ECEF93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72D54B-580D-4826-9D50-2FA0C886D9C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1521F7-826E-40C8-8CC0-AA35D6E988C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E1B1E6-E040-4CE0-88E8-8E030398D9F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F095EA-A6B5-4C45-9665-D23B03D322A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105105-3E72-4B88-A97A-71E673B3A23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27463-36E6-4FE6-8191-48456E78494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CAB69-F754-4ED3-86EF-981E1F0020D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2A5ED-904B-4063-BE67-DC1C6086034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E8E8F-CF3C-44B2-9292-3DA45B5A43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11B02-3158-4A50-97AC-6D3E5838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B499F-63D7-44FA-9531-B5B470EDFA1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C8118-2877-465E-B125-D36296BDC89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61499-0E6B-4BD2-9CB2-5701DD05E08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9BCD0-4619-4624-92FF-0F2DFCB7A43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4568A-4AF8-4AF8-9DE6-9B4AA44361D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A9A26-3ED6-4E8A-B536-D8F57F56D31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963B2-0F33-405E-BD7B-03127D63D1D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F1B73-AFF8-48E2-979D-F3AB12179BB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B06A7-A287-401D-8228-C4A684CC410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5938D-A03F-4674-A416-4CE3EA8A16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B535B-89D1-496E-91FB-59EEFCC5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B49AC-5064-4D48-B34D-50C5D942665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61DF1-443A-48D5-AF63-2EBC0B7CBA8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48D27-1787-46E9-AAD5-34F96F31269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46691-C4A4-4591-98B5-7B14F62E69C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2841F-17F0-45EA-9DDD-24A3547A0E2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A7547-9A72-4750-9F77-E5E4C3927CC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6B829-B533-4209-B023-9D3FF860625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80DD6-AF96-4921-AB42-413FBEA8195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3DF2D-68BE-457E-8C27-7ECEDD0D980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DB3D42-5090-4052-9BE5-D9D4CA4215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FFCBC-4096-4415-8F15-EDFF074D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79357E-A3BC-42C4-BFB4-A4025233711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5662C0-CCE6-4555-97DB-09BFCADF229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E4A294-2E98-4C1D-98A6-66BC8F9FA67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887D09-FC24-46F4-8D29-E4AA91DD55E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9DFBFF-C746-4482-B31B-A19BE3434E2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0E5009-88D9-414E-B538-8AA3D4C1D47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3B9A67-7A05-4E7E-9F02-9028E427BE6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BF4511-E54D-4ADF-8F4C-6A5D05180B4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82EC1C-F1E5-4E8E-A556-86DCA4A314F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1335EC-B977-45B7-9550-EAD92A4111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1313D-72B6-4538-A072-C26067FA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F15FDB-9916-439F-8DC8-D9867A6112A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C9F8A4-14F3-491E-A68B-EEA993D4772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9C17CE-7F3A-4945-A2D7-F0415060B1A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97AB23-CB04-49EB-A10D-33598BFD5AA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4120EC-335D-4EA0-A4B2-03399F0BE57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0B75E0-0355-489E-B5FA-1643091A0E1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3B8989-4A6D-421C-9965-DE0490DE7A3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B9875C-54F4-457D-92E1-65133124D95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7FB993-4C10-4855-9349-22A4D88C3A0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80D1AF-1426-42E2-B2AD-530B0EAE38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0D291-EC1A-49F1-9D16-E344DCDE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23D070-E797-45DC-9BD3-DB08DAA3C49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ACFC71-4DE7-4AAC-A03F-A6F4CAD709E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0F5E2F-9093-4672-99A8-C4F03C24A48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40694E-9EE9-42A3-88BD-80E558A0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756205-358B-4C4C-A43C-DACDE2F4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5AD2EF-28EA-46C1-B300-283D9EB1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31BFEA-2A2E-4DAD-905E-43760FD2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6C6ED6-FC35-4238-83DB-B2BEF78C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C30984-AA5E-4FA1-953D-4CB4CDFE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8EC5FB-FFDF-4BDB-AFE6-79BCFFEC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1EDE-217D-456A-B84F-C512476D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C29D2-D50D-47B2-892B-FBF8294B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1B1EA5-E1B6-4A0C-961E-6C24A398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888625-FC11-499F-9BD7-CF7F5376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AFF3F9-0F21-4769-A82F-8569EC5E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B34910-84B0-4EEA-A3F7-D2C9CB6E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EDA864-BAD4-4A34-BF03-65B31A94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191B1A-7FD1-4B2B-8425-F0DA9C07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1906D6-51C4-4AEE-8755-DB88AA2C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477594-6BF7-491B-926D-420F7448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163CE2-2FB7-4C05-AF18-7C66778D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6128B6-881D-4F57-857F-C722B75B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E91A2-11DE-4656-A6D1-4E23C820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F9FC27-A3A3-460F-ADCD-7BF96836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12E047-AFD2-45EE-BB0C-39B3778D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5A57E5-89B2-4770-AF4C-50666DC7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3B92FD-235F-405A-B20A-CA93FF33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1F2147-DE5A-4A7F-AE4B-099EF023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122E51-D548-412D-9B82-6FC80E75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9855DA-1A44-433F-8E0B-64D0EADB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2365B7-25A2-449A-8782-26ED6484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9FFA33-4859-481F-A2C2-D774991D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F4F480-0FD9-4660-951E-EF1A9DEA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9C82F-195D-4F28-B1E2-529EBB3A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097FB4-6F9F-4F0F-9032-F558E33C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D0F808E-01F8-42E8-B6A8-199BBCB7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541B70-0AA1-42BA-87B6-D9BDA532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C1B451-FB03-4C0E-8CB3-9403A764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7C331D-AEDC-4831-ACBE-FDBE944F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90B834-A369-48A7-8D70-5C0200DA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614318-A4D9-44D8-B24F-B53B74F1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E5ED8E-4315-4134-BF1A-131592A3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0EAE1B-DA55-440C-801A-915E3FE8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36E84E-E741-411A-B523-92C7E3B0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01B3C-ABC2-4F04-8073-682F4B1E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4B3C24-20A7-4968-89BA-762F186F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3DFB46-2A95-47CC-8F96-6A7D4AEB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1397A1-BB66-400E-ACA6-A44C72C9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16082A-BCC8-45D6-94CC-D11134BA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F2DF7E-53B3-46E1-9E7B-64237193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010D76-44F2-48E6-AED5-8B608A0D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004513-1ADC-45DC-B1E5-D64C0FC9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91A3E9-D449-4ECC-9807-4217484B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334927-5CA8-4E81-BD83-0BF210A4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55D83A-80BB-48D2-AB4F-45EFE25A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AC002-75CD-4F03-9E14-87C907F1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608DDD-7461-415A-B6D2-3209394D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5333B2-449B-4668-9959-23C55E2B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0C6FDC-DB00-4086-8FAD-08BC48D3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B617DA-455C-46AC-AB68-CD22CD46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402300-07D5-4B35-90D9-29658F90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E09DAC-9ECE-4E4B-8CE9-AC1F29D2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70D2F7-3A12-403F-92A4-15E54145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6116E-A116-4ECA-ACA8-E911463F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740C3-B6BA-4A2C-8935-DFE92F22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4E1C5A-0032-4D48-B4A8-E3D15B3A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B98149-75B9-4E94-B224-4C7CE95C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EF58B-983C-4055-810B-FEFB7B4A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3D2C81-56FF-421D-A56A-8D2D0D80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25189D-6246-46AE-9423-FF1339F5EB7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6A3FB1-BC14-493B-A607-70FD4FD00FD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9E93E3-9266-4DBA-8645-C146C5A02EB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5F4BEE8-2173-4723-9907-16F4178F164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07838E-AD39-471B-BCC5-3FFB9237C8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5C3650-ED18-4FF0-AF47-1200CD7A9BB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2000E4A-0E40-4893-BC03-37D6A98AB44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445DB3-907D-4859-B3C3-72F428DAA5C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B0390C-CAAF-4CC5-9976-116F5641E79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02A4F3-0F13-45C2-BA65-E61027CD47B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67566F2-9B1E-4F0C-908F-D35ADA4E05B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7EC885-0985-43D7-A1AE-AE887F6E4E5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E7B1A7-A4FC-4510-9564-6FB6050B4C8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BBFBDF-362A-4767-9FE5-CC88BB2C8C5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D4BCA9-AB92-4AC3-B448-7D608C9827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E121A7-5810-4136-9E16-A094C480AA8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5312C-0AA6-4385-9366-BCED3645DAC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8A6FFC-0D23-4D3A-A6B8-9DCD3948FBE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49146-E856-46C7-BD7C-FC42C9EEEB3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1CEB4E-197C-4C74-A74D-0F3C0BE2954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3EE3EC-30AE-4F71-9958-179AC1BD916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B05C79-0E15-4564-8D55-6E3C4D7D9E2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8E176B-7569-426D-A15C-B032456B5D0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247767-87A3-4C75-A6EA-7C878E12CDC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6111F5F-F177-4B6C-B209-84C43E289F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E431D3-CA35-4527-A2F2-320D461392E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F4223C9-F081-4FFC-A677-CA0A14A30A2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D0B778C-BC44-40A5-9B7A-F52DCC26433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AFB7707-A4E0-43FC-8D97-C484F36C743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58136D0-9A1B-453C-BA06-6C496F36963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5B00144-7307-49AD-A36E-116BF5AFBE7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859C40B-984C-4CB1-9145-2F7BE211DD2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CF9F1F3-02D7-4F72-BFA0-34DEF48343D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857D4E-55A0-43EA-9F6D-A48564589D8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60C5258-D0D6-46BE-B1C0-C23D68B237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A29A-4AC1-4FDC-A652-FD1EC383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AB1CD49-572E-43F7-9194-D6E67FA6FBA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3D18537-BA14-4EF9-AA4C-E29D2FA3BBA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794EA5D-FC62-4E78-BB2C-650EBE675BB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D87895A-5EF9-4D2B-80CC-32154C5AABB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4660CB7-D74D-4A9D-BF63-776508223D1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EECEA0E-28F9-4938-B999-AF5F39DFF25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85C5DDB-251B-489E-8E8F-63246F26946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291CFCC-2BC8-4BD6-B491-89213E7BCC1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16A1390-EE8E-4F6E-9EA0-B9F491A02A5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369C618-6D47-4BF5-A10E-E794B44309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4295786-BA3C-424C-8594-8BC1502E066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95FFDBF-A9F7-48ED-8269-675FE7F6F28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A292B67-6F32-46DA-B857-251502298820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DF9180-760D-49DA-BDE0-D7594C4E537D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E8AFFA-3DAF-47E3-B2C8-377CC6FBD7E3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8AF8BF-C8FE-4104-A4EA-14100B77D286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2FD23-00DF-475B-98C3-B7CBFD2CF5E7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0307A-F8DB-4EE6-988E-250F20FA57C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3050FB-D0E7-45DD-BAC8-D200995580D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9C8771-3216-47F7-AFD4-28B1EB89F2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923C3F-8E93-44A9-980A-679B3CE6894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89C326-B2E6-4D9F-8FAB-4044A0183C8D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237BA5-185D-450C-AD1A-0063DFE9196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B7405D-6EDF-46AF-A28A-0F92A05EE9F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CDC6FC-6540-4499-8D41-EE83CC67ADB2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C8AAABC-54E3-4D26-8031-7DBA5EE2686C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24FA8FD-579A-4BCB-BC1A-701FAEF7872D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C00BEB5-980D-4770-8CBF-DDD5F2B54531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A1D0293-DFFB-45C9-8836-15BC4791E101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1466CE7-F4BC-42B3-89C0-C603E4AB50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0757FEE-D998-4967-9532-1C835A835149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EC1BFDF-081E-45BC-A32D-92A597E8AD4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216041D-7C88-4F64-B006-AAC0032C21B1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4EBA4E2-0F90-4C6F-A88F-C27F3BE19677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E90148C-97F2-465A-8585-8D85FD09BF71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3BBE38E-F64E-409F-9901-B5A73253DB91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6E62879-3888-45F5-AA27-FBEF724E8B0B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27ABE88-AA70-4613-8510-2D66A0AF59B9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067AD37-4889-470A-B70D-976BE9B6E937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D765CBD-1AC9-4FE3-BC72-810E2594D7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FAFBDBE-73CE-4385-9E10-506B6E07B864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597CB1E-4994-4338-9691-F08A80FF12AE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D8E62A3-5850-473B-B2B1-DAC47D645EC7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7B3623C-2C96-4AD7-9CA3-B7A7A9D458C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98CB71A-E87D-4519-92A4-47FF5B02C964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DF76C8D-2369-44AF-95B3-7762C9831C1E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070805B-5915-443C-B396-FC7DA22BE480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DDE2F85-D285-4E70-811F-92C9EC6DAFAD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2CF1CAD-992F-4B42-A40E-EC8FBC139CF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260AC0-44E3-4D4C-8673-6CC6369071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0B494A-7BFE-4D69-BC3F-F24CA2E55131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D513F7-76A9-4510-9BC6-116E02EEB285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86D7AD-6A71-47C0-9D4D-9462D9BC7408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63E580-C3EE-47C6-9FEC-E41BDD685533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7CA7EE-BFA6-4E83-81A2-EC1E3E7F4EB5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22B606-73E4-4AF5-8B33-8DF1BEE7843F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8C67B6-2A1E-4D8A-B748-3ECADBA09304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3A9ACD-78C8-45B8-ACBB-2F5FE247CA65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C69399-E8A9-4900-938B-2FBC3A04EB06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DCFD79-8FEB-40C7-A141-52D41137F4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1AF241-A46B-464A-9E51-D29BDEEBB45A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F13822D-8161-459C-99F4-0FC17025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027EE06-122F-42EC-8909-3149CB82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33E67B4-0B56-4CDC-9339-48654748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5E51E99-F567-4F20-B20B-7DA3D3ED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26D0B85-E671-4B63-9791-410EB78C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28B8252-7031-4FD5-929C-E1414F42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EAF2954-9A8E-4B4C-B7DD-31258B44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BFC106E-8B74-45AD-AF1A-88B6D23B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01FCE21-2D30-4FDD-AF2E-4218E1C2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DD355-67E6-4465-8F22-58B20B28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439EA97-1DBA-4D3E-8F7A-C37ABFFF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EB30931-DB9A-41DD-B516-74E0E0CA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20D08FE-D8C4-4582-9EE2-13333A99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73D9C02-C6A8-4395-9A61-225AADB4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2DFBC88-CA5D-4B2B-A484-6EDC153D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DAF47D5-DC50-41A1-A921-BE6589EF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23F993E-671E-49E3-979E-36B6E8CE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B0193A2-4EF9-4C9C-AC19-42706F22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815F102-B3F5-4CA3-8526-69E3367D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BDE9588-E232-4F6B-B013-8E721036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95571-FA0E-4F1F-ABBD-E03835D6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C49526E-43DD-4823-A1D6-142EB0ED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CCAB26E-BBE6-4D99-A8DF-00291C90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2DAFA5D-E44C-4B36-B669-7E0D018A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F8E2AD6-5506-4CD5-9D92-191FB93C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3B2E346-DEB6-4680-8E0E-1C0BF226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9C43316-3779-4B62-94E5-6E35C393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4ACEC3E-4531-481D-80F1-E4A9B903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1050FFF-D669-41EA-844D-DA629853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26026AD-34A9-459F-85A9-ABD5C5EF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C3AA77A-DBA0-4D0C-80B7-590E3318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1E7F7-15AA-4258-89E9-31EF1C77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CC2DF15-9B53-4D0B-987A-1153A095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9B6F497-D062-4029-9FD3-AD6AB5DA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5552DC5-E339-4ED8-BAEA-D38C2805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19DA2A2-4AC9-4850-865F-29FC5655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7940A6E-7C77-4145-8B02-9AB780AE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9F7AD3A-0284-446B-BD61-1A83A066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DCECE3A-D4DC-4E32-B118-99D2D202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AD5280D-0B5B-438D-8B60-834EC0FB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E936F55-210D-4994-804A-C6560893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17CB582-3393-4681-A5B1-225CE2BF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74D0-C3FB-4FF5-BF86-A73E9A84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4C7B2-BEA8-4519-938E-9685BC1A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00F3D6A-6CE9-45E9-8C5B-75BEBB04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51AE134-DC0D-4575-8887-A24781CD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09BD23B-E470-49C3-AFDF-A393E7F5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88A9080-CA02-4534-A89D-2DEC0D3A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6A06BD9-49CD-4FF9-9466-A911E21F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1FBB9FD-D20A-494F-8C10-0ECF7DEB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BB7DAD8-5FFA-4670-B53C-6AFF0F0C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FDFA32B-FB8F-4A2F-8D16-C1B083AF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04E2BD3-8C90-4BB5-B318-7558ED76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A736D-6A4B-421A-B1B3-C34E5405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581A6-B9F1-404D-A882-421D745F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2A34F-8D5F-4B17-8E6F-08E2CB95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89E1E-FEB9-4541-8A89-515B5475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C2A2C-90FC-4104-8885-3FB2FC49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A2EA3-0417-4E37-AC61-99B068AE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28D31-F711-4561-BF65-6F36D2BC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AA98C-DB98-4F7C-8E4D-3FE9FE19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E9AB34-BC29-443B-8341-91764EE6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127B-2ABE-4FF8-B063-522B39EB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C794CC-2F6D-4F76-951C-98CD6EFE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58AD44-F3FE-496F-910B-53D02CDA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3125E9-4F7E-4CB3-8D11-CE57CB27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5BEB2E-2FEA-4C96-97A8-247870C3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CC4371-01E5-4383-8E95-F7916AAB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F8011F-2AE6-4C23-B6A0-1F701E1A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17A0B-7556-44F2-8B55-2B1EC2E8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4D57BD-4020-4EB2-A464-8E7360D9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85EB5F-FF19-4B06-82C8-052C8563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41F69-1EB2-47A4-8A0A-1EE488A2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F34F-1F71-4AB5-BCE0-6B70CA13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AD677A-F7A7-46BF-B5F6-C80E7CB6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A856-FA04-40B9-A19A-16CD1746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1A299-2E22-4D3D-85A9-4397E5CC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7EAE0B-71D6-4AF5-95DF-4962A398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C02EA4-BE6B-4D13-AF7E-FB7C2AD8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46BCC1-2BE4-4C4B-A213-0CF68196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0B7E1E-3AF7-402D-831C-F95A7489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1782E7-9BEA-4545-8BD1-5F7C3C07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6E7A-4553-42F6-8313-01F53148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242D3A-515B-4098-9B4C-10956591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177780-F015-4FCB-9AD9-12BEDB05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CD86DF-06E6-4F9E-A771-BCF96A05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A3CBF6-EDF4-4C3C-8B3E-D1EB8C5A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2F624F-E7F0-4398-AB80-2AA3BCCE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98D7AE-E625-4DE3-8BCC-9B4B9BBE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05E883-985F-44E2-A0C6-5E2C7F17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E0E18-AF7C-4F8F-8198-339EA040138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64DEF-F9F4-432B-8365-0FC2CFFEDCB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BA8C2-4698-40E3-9830-C02293FB8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3340-BA68-426C-BBAA-8B3AD16C061A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19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853C-31A3-4454-98E8-0B9C57E68B1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7460-EF26-4D12-B147-CCA6F0F2917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40C4-ED52-4FFE-80CC-1F0F946856D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D081-8BDC-45EB-B1CB-B4A6EC49123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40DD-3FFA-411F-8B1E-4B6640ABED5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89B4-8256-4BB5-95B5-1A038C4BFF5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5B6D-B6D0-4072-976D-5408C3AB1F2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37BE-837A-4BB2-8950-B089312CF1C6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1A55-A37D-4187-AF92-03F08BD069B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B1CC-0766-4C96-BE32-E79E150DD0C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315F-6B5E-4DC8-96EE-572A1DABFF3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41B5-4D02-4120-966E-82680E9B0E9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ftr" idx="45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47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4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1BC2-E132-4047-9B6C-4D89364AF371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ftr" idx="49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50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9170-585C-4F79-B0C4-4B9E1DC402F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Num" idx="51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9B97-2E70-471E-A29F-EE844CCC128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5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DD8B-9709-4314-84DC-8845DE66E8B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5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6802-14F3-4DF2-A13A-3CED75C5BC3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5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165F-756D-4F84-A10F-6748EA638D0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5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E6EE-1509-467E-8479-C876AC47E3D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6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A44E-BF01-4839-929B-7E7C79F2BC4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6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4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0244-F70C-4800-8EA7-26B9D9D2059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297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B1A5-0B74-42DB-8875-691411C8FD3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5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4DDF-DFFB-465F-9238-B4B12D1CABD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9AC2-0D35-402B-B099-5CD6A556244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435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7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8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0434-9C2F-4D2A-B37A-68A27C0B94D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5BA4-E10D-400F-BDCB-6D41E4F29CEB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9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2B59-A154-4DDF-ACFC-C755EABCAA3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5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1D8C-C558-46CE-A7CA-43F18EF1574E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17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8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27E0-6B00-48FD-A0DF-034E3969FCE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00000" y="1045800"/>
            <a:ext cx="7920000" cy="10126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Nacionālās Trīspusējā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sadarbības padome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2009.gada darbības pārsk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1835280" y="256536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ēdes –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(1 ārkār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gatavoti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84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tzinumi par ministriju iesniegtajiem tiesību aktu projektiem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. </a:t>
            </a:r>
            <a:br>
              <a:rPr sz="2600"/>
            </a:b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Galv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eņēmumu un izdevumu  izpildes gaitu 2009.gada 1.pusgadā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bezalgas atvaļinājumu dienu piemērošanai sociālās apdrošināšanas pakalpojumu aprēķināšan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 plānoto valsts pensiju reform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plānotajām izmaiņām valsts sociālās apdrošināšanas jomā. Par sociālās drošības tīkla stratēģij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Koncepciju par mikrouzņēmumu atbalsta pasākum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risinājumiem situācijās, kad uzņēmumam maksātnespējas gadījumā ir parāds pret privāto pensiju fond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332000" y="1989000"/>
            <a:ext cx="7424640" cy="3881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3000"/>
          </a:bodyPr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Teritorijas plānošanas sistēma tuvākajā piecgadē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Reģionālās attīstības likuma grozīju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(LIAS)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ajona pašvaldību reorganizācijas gait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iekšlikumi valsts funkciju decentralizācijai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Vienas pieturas aģentūras principa ieviešana valsts un pašvaldību pakalpojumu sniegšana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lānošanas reģionu ekonomiskā profila izstrād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otenciālo īpaši atbalstāmo teritoriju noteikšanas metodik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un tā turpmākā virzīb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Reģionālās attīstības trīspusējās sadarbības apakšpadome (RATSA) – 4 sēdes</a:t>
            </a:r>
            <a:br>
              <a:rPr sz="2200"/>
            </a:b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 txBox="1"/>
          <p:nvPr/>
        </p:nvSpPr>
        <p:spPr>
          <a:xfrm>
            <a:off x="1476000" y="1484280"/>
            <a:ext cx="7343640" cy="43243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5000"/>
          </a:bodyPr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Eiropas Savienības klimata - enerģētikas likumdošanas paketes pamatprinci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Grozījumi Ministru kabineta 2002.gada 9.jūlija noteikumos Nr.294 „Kārtība, kādā piesakāmas A, B un C kategorijas piesārņojošas darbības un izsniedzamas atļaujas A un B kategorijas piesārņojošu darbību veikšanai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Atjaunojamo energoresursu izmantošanas veicināšanas tiesiskais regulēju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Informācija par iespējamiem risinājumiem ekonomikas atveseļošanas un enerģētikas neatkarības sakar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ides ministrijas un padotībā esošo iestāžu reorganizācijas rezultā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Klimata pārmaiņu finanšu instrumenta finansēto projektu iesniegumu atlases izsludināšanas plānu 2009./2010. 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720800" y="2743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Vides aizsardzības lietu trīspusējās sadarbības apakšpadome (VALTSA) – 4 sēdes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gad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Profesionālās izglītības un nodarbinātības trīspusējās sadarbības apakšpadome (PINTSA) – 10 sēdes Galvenie jautājumi 2009. gadā</a:t>
            </a:r>
            <a:r>
              <a:rPr b="0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Rectangle 4"/>
          <p:cNvSpPr/>
          <p:nvPr/>
        </p:nvSpPr>
        <p:spPr>
          <a:xfrm>
            <a:off x="1476360" y="1557360"/>
            <a:ext cx="748836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iestāžu tīkla optimizācijas programmas projek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skās krīzes un ekonomikas stabilizācijas plāna ietekme uz nodarbinātību un MVU un inovācijas loma ekonomikas atveseļošanā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tbalstāmo profesionālās izglītības iestāžu un tajās modernizējamo izglītības programmu saraksta apstiprināšan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ugstākās izglītības finansēšanas problēm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Strukturālās reformas profesionālajā izglītībā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attīstība un audzēkņu uzņemšanas plāns 2009.gadam profesionālās izglītības iestādē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kas ministrijas līdzekļu izlietojums nodarbināto apmācībai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1476000" y="1483920"/>
            <a:ext cx="7410600" cy="438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Darba lietu trīspusējā sadarbības apakšpadome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DLTSA) – 4 sēdes 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Rectangle 1028"/>
          <p:cNvSpPr/>
          <p:nvPr/>
        </p:nvSpPr>
        <p:spPr>
          <a:xfrm>
            <a:off x="1476360" y="1484280"/>
            <a:ext cx="74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grozījumiem Darba likuma 96.pant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Darba aizsardzības jomas attīstības programmas 2008. – 2010.gadam izpildi 2008.gad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Valsts darba inspekcijas 2008.gada darbības rezultātiem un plānotiem darbi 2009.gad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Minimālā dienas/nedēļas darbalaika noteikšana darba līgum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likuma atlaišanas pabalstu valsts un pašvaldību institūciju amatpersonām un darbiniek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nākumu no sezonas darbiem uzskaitīšanas atvieglojum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idējās izpeļņas aprēķināšana gadījumā, kad pēdējo sešu mēnešu laikā darbinieks ir slimojis un strādājis tikai pāris mēneš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tlīdzības (gadījumos, kad darbinieks neveic darbu attaisnojošu iemeslu dēļ) aprēķināšanas problē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spējamām krāpnieciskām darbībām saistībā ar kompensāciju izmaksu pēc darba tiesisko attiecību izbeigšanās par neizmantoto ikgadējo apmaksāto atvaļināju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 txBox="1"/>
          <p:nvPr/>
        </p:nvSpPr>
        <p:spPr>
          <a:xfrm>
            <a:off x="1692360" y="1268280"/>
            <a:ext cx="696600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720440" y="274680"/>
            <a:ext cx="7172280" cy="1209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Veselības aprūpes nozares apakšpadome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(VANA) – 4 sēdes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Rectangle 4"/>
          <p:cNvSpPr/>
          <p:nvPr/>
        </p:nvSpPr>
        <p:spPr>
          <a:xfrm>
            <a:off x="1619280" y="1773360"/>
            <a:ext cx="7273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samaksu veselības aprūpē strādājošaj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Cilvēkresursu nodrošinājums Latvijas slimnīcā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Veselības aprūpes pakalpojumu tarifu atbilstība izmaks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2009. gada valsts budž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Grozījumiem Ministru kabineta 2006. gada 19. decembra noteikumos Nr. 1046 „Veselības aprūpes organizēšanas un finansēšanas kārtīb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59312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Transporta un sakaru nozares trīspusējās sadarbības apakšpadome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TSNTSA) – 1 sēde. </a:t>
            </a:r>
            <a:br>
              <a:rPr sz="2200"/>
            </a:b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Galvenie jautājumi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Rectangle 4"/>
          <p:cNvSpPr/>
          <p:nvPr/>
        </p:nvSpPr>
        <p:spPr>
          <a:xfrm>
            <a:off x="1476360" y="2276640"/>
            <a:ext cx="7273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grupas izveidi taksometru pakalpojumu sniegšanas izvērtē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Satiksmes ministrijas budžetu 2010.gadā un paredzēto finansējumu funkciju izpildei (sabiedriskais transports, autoceļi u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39164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Lielākā daļa no NTSP apakšpadomēm vēl nav apstiprinājušas darba plānus 2010.gada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Šādu informāciju iespējams papildus sagatavot līdz nākamajai NTSP sēdei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ldies par uzmanību!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42051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irms un pēc sēdēm sagatavotas un nosūtītas preses relī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NTSP pieteikumi atzinumu sniegšanai par VSS izsludinātiem tiesību aktu projekti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VSS protokolu izraksti un nosūtīti LDDK un LB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niegta informāciju par precizētiem tiesību aktu projektiem un uzaicinājumiem uz starpinstitūciju sanāksmē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NTSP sekretariāts sadarbībā ar sociālajiem partneriem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1285560" y="1999800"/>
            <a:ext cx="76057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8.01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 uzņēmējiem nepieciešamajiem finanšu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strumentiem tautsaimniecības stabilizācij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11.02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Sociālo partneru Latvijas Darba devēju konfederācijas (LDDK) un Latvijas Brīvo arodbiedrību savienības (LBAS) un Latvijas Pašvaldību savienības (LPS) prasības krīzes pārvarēšan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128556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03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ārvalstu aizdevuma līdzekļu izlietojuma uzraudzības komisijas izve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lānotajiem grozījumiem Valsts budžet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r likumprojektu „Grozījums Darba likumā”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643040" y="28548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1218960" y="157140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</a:rPr>
              <a:t>15.04.2008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 pamatnostādnēm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29.04.200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riekšlikumiem un valdības atbildēm uz LDDK, LBAS un LPS prasībām (krīzes pārvarēšan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571400" y="142560"/>
            <a:ext cx="71038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3614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0.05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priekšlikumiem likumprojektā „Grozījums Darba likumā” (atlaišanas pabalst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izglītības un zinātnes situāciju Latvijā. Par profesionālo izglītību (arī 1.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01.07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budžeta grozījumiem 2009. gad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valdības priekšlikumiem 2010.gada budžetam un plānotajiem 2010.-2012.gada budžeta ieņēmumiem un izdevumiem</a:t>
            </a:r>
            <a:r>
              <a:rPr b="1" i="1" lang="lv-LV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Reformu vadības grupas izveidi, darbības princip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7840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121392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12.08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Eiropas Komisijas ierosinājumu atteikties no valsts līdzfinansējuma struktūrfondu apguvē un NTSP Veselības aprūpes nozares apakšpadomes ierosinājumu ieekonomētos līdzekļus novirzīt veselības aprūpei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6.10.2009. (ārkārtas sē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r likumprojektu "Par valsts budžetu 2010. gadam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29937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-60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11.200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valdības un starptautisko aizdevēju sarunām par 2010.gada valsts budžetu un to rezultātu ietekmi uz Latvijas tautsaimniecības attīstību un uzņēmējdarbības v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ES fondu apguvi un finanšu pieejamību uzņēmējdarbības un infrastruktūras atbalst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sociālo dialogu iekšlietu sistēm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50040" cy="14702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 txBox="1"/>
          <p:nvPr/>
        </p:nvSpPr>
        <p:spPr>
          <a:xfrm>
            <a:off x="1476360" y="119664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zpildi 2008.gadā un par valsts sociālās apdrošināšanas speciālā budžeta plānu 2009.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istēmas finansēšanas nodrošināša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fondēto pensiju shēmas darbību 2008.gad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lānotie grozījumiem tiesību aktos sociālās drošības jomā 2009.gada valsts budžeta grozījumu likumprojekta paket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alsts sociālās apdrošināšanas obligāto iemaksu parāda piedziņas rezultā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ANO Konvencijas “Par personu ar invaliditāti tiesībām” sagatavošanas ratifikācijai gait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ES likumdošanas iniciatīvām dzimumu līdztiesības jomā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6966000" cy="1353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 (SDA) – 7 sēdes. 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1:11:42Z</dcterms:created>
  <dc:creator>Inese Erge</dc:creator>
  <dc:description/>
  <dc:language>en-US</dc:language>
  <cp:lastModifiedBy>Gunta Freimane</cp:lastModifiedBy>
  <dcterms:modified xsi:type="dcterms:W3CDTF">2010-01-06T14:24:52Z</dcterms:modified>
  <cp:revision>40</cp:revision>
  <dc:subject/>
  <dc:title>Nacionāli trīspusējās sadarbības padomes sekretariāts</dc:title>
</cp:coreProperties>
</file>