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8EFA027-D146-4EE7-BA49-253A8367476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E74A734-3E38-425B-AE64-F37F75BD23C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F930542-9BBB-47EE-A5CA-84BC06BA532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DFF4DBE-F2D6-4693-9F87-05DA5E6F00B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E6AEAF1-1399-4D32-AED3-C772259D895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B907740-BD44-48A1-92A1-5859F6FC65DA}"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F518BF1-115F-4639-BBC1-CFCBD432AA5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DFC4825-54AF-4C0E-90AC-8764BF937730}"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CFDAC5A-8ECF-4607-9927-2338CEE23A24}"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CC704FF-74C6-4EE9-A882-CF8506C538E5}"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F408CF3-7800-483F-AB0C-0E0204B90BDD}"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421F0A9-BBB1-43BF-9A53-B00F06FD23E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1E8B31D-0E54-47D4-A888-4D321872861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452A32E-45BD-49A2-BFAD-43A63B56CF7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5B456A7-3027-4A7D-8FDC-580AB536F3F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C9BEA-940E-4E83-BA3D-1E74F4736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4F70F-9FD5-442E-8CF2-E4D0BEBA7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1AB2D-ECB8-4BB3-B145-FCBD3FF6C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9DE11-EFBD-4189-973F-6F5F01DD8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6FDCC-518A-4B0B-9453-14225640C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22593-4770-437B-A088-A1DA882FA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5CA2A-7877-49B1-B581-7DD62521B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B12DF-9522-4E0D-A469-36AC523AC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C5157-2F03-46AE-8B58-E80F3D952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38E2D-0D3A-40F5-8BFD-29E96998E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AC9BF-3F88-4658-9A10-73E3CD9B8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9A492-A9E5-44D5-B532-06D8A141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880AC-071B-438E-92D2-B54E71F65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FFCD2-88EA-43D3-BE2C-8F32796B2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22C48-DA48-4B89-A618-1AFF97196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39623-E18A-4BE6-B114-A8AF5CEC0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A7CD3-D98A-4C19-B9DB-1AC9509FD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46A90-3249-4DE4-A583-C012F1256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71EC6-2E22-4F70-994B-D2397F69B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FEDAB-A154-4796-B6E2-5779B309E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C7B8A-4F18-4EC5-BDD8-B6D2E8469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A0BB-ED2C-42D6-9DD7-89BC4DA23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A0BEA-D585-426D-A687-48600EDAD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C7949-5EF2-4722-88D1-D96A364CA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B851-E424-4A47-988A-8A5AEAD817F7}" type="datetime">
              <a:rPr b="0" lang="lv-LV" sz="1200" spc="-1" strike="noStrike">
                <a:solidFill>
                  <a:srgbClr val="898989"/>
                </a:solidFill>
                <a:latin typeface="Calibri"/>
              </a:rPr>
              <a:t>30.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1934-09C5-44DA-AFC8-A9A9A106A8FE}"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0533-1559-47A8-AB9A-30784B81E657}" type="datetime">
              <a:rPr b="0" lang="lv-LV" sz="1200" spc="-1" strike="noStrike">
                <a:solidFill>
                  <a:srgbClr val="898989"/>
                </a:solidFill>
                <a:latin typeface="Calibri"/>
              </a:rPr>
              <a:t>30.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B56E-689B-418C-BB26-DF4E10092F12}"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ABDE-4442-4C2B-AF2A-672112273323}"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3270-2C23-468A-B6CC-D9488EEF8B98}"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D87C-616A-41C9-B14E-07D8F793AAA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B684-8FBE-4BE7-81F1-0641A72D5EA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FA0B-16A7-492C-B57F-EB6672F5553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DF35-0BC7-436B-8815-DB16FB23885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7CF8-CA77-4854-BFFB-7EE740E9DDCF}"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1DC9-64F0-4448-B5A1-6336D9116048}"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2F7B-398F-487E-8A79-ED5BC5D94CE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DCBB-4D5D-498C-AA54-90CF30FB48BE}"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152B-592E-4917-AF12-95FC20AC825B}"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AA57-46CB-4178-8D59-BDEDBEAF7521}"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9EF5-A6B8-4569-B9AF-A3A26E65A3F3}"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