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44D8A-3A4A-41A3-8306-0B270A94E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DC83B-1A08-49AA-9FD4-0BEE9A069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38457-2323-40E9-BD8A-891BD5B07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080DE-0746-48B9-8024-3D0B29F13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4D338-CE73-4F80-AE95-1FB334987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8AAE3-963B-4D12-A4D1-FDAA91C2E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4F87B-44C7-4B6D-B5B3-8AF2FE5AA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4CFE8-5AF7-48D0-BE1F-CA34F6174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9C17F-CF7C-4636-91EB-E53A0C88B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3546C-A17F-4932-BF62-69E1EB5CC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62CC3-C91F-488A-864D-D4791F786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5C4D2-90B0-45C3-8485-E7B29EE4D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7B528-8C80-487A-BEDC-DEFB4C3A4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9C368-E93B-4EBB-AE38-A9397DD3E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9E119-F2BE-4528-A8D3-667E3A5D2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EE31F-80C2-4C8B-A2D3-DC9B42A6E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21224-57AD-46B5-8B6C-D3B6CA1FE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3A0E2-9422-475D-8275-39482F19B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4069F-A098-42D2-A6DB-B4EE057FA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5ADD2-B244-4C9A-B210-14D82ED11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57230-4759-4F26-BDE3-AAA64CB21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8183-EB2F-4CF8-9F71-88F24EEE3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7444E-B648-48D2-A112-6370523EB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22281-57A2-4789-99A7-CC1F32FCC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F516-12BF-412F-8EA5-F4CB940EA2D8}"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12F2-5D81-4EC8-90EE-013942E7BC2D}"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Click to edit the outline text format</a:t>
            </a:r>
            <a:endParaRPr b="0" lang="en-US" sz="36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3c60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80808"/>
                </a:solidFill>
                <a:latin typeface="Tahoma"/>
              </a:rPr>
              <a:t>Darba lietu trīspusējās sadarbības apakšpadome</a:t>
            </a:r>
            <a:endParaRPr b="0" lang="en-US" sz="4400" spc="-1" strike="noStrike">
              <a:solidFill>
                <a:srgbClr val="080808"/>
              </a:solidFill>
              <a:latin typeface="Tahoma"/>
            </a:endParaRPr>
          </a:p>
        </p:txBody>
      </p:sp>
      <p:sp>
        <p:nvSpPr>
          <p:cNvPr id="83" name="PlaceHolder 2"/>
          <p:cNvSpPr>
            <a:spLocks noGrp="1"/>
          </p:cNvSpPr>
          <p:nvPr>
            <p:ph type="subTitle"/>
          </p:nvPr>
        </p:nvSpPr>
        <p:spPr>
          <a:xfrm>
            <a:off x="304560" y="4971600"/>
            <a:ext cx="7924680" cy="89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uzdevums</a:t>
            </a:r>
            <a:endParaRPr b="0" lang="en-US" sz="3600" spc="-1" strike="noStrike">
              <a:solidFill>
                <a:srgbClr val="080808"/>
              </a:solidFill>
              <a:latin typeface="Tahoma"/>
            </a:endParaRPr>
          </a:p>
        </p:txBody>
      </p:sp>
      <p:sp>
        <p:nvSpPr>
          <p:cNvPr id="8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Nodrošināt un veicināt valsts, darba devēju organizāciju un to apvienību un darbinieku arodbiedrību sadarbību un līdzdalību darba aizsardzības, darba tiesisko attiecību regulējuma un vienlīdzīgo iespēju saistībā ar darba tiesiskajām attiecībām jomas pilnveidošanā</a:t>
            </a:r>
            <a:endParaRPr b="0" lang="en-US" sz="2800" spc="-1" strike="noStrike">
              <a:solidFill>
                <a:srgbClr val="08080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a:t>
            </a:r>
            <a:endParaRPr b="0" lang="en-US" sz="3600" spc="-1" strike="noStrike">
              <a:solidFill>
                <a:srgbClr val="080808"/>
              </a:solidFill>
              <a:latin typeface="Tahoma"/>
            </a:endParaRPr>
          </a:p>
        </p:txBody>
      </p:sp>
      <p:sp>
        <p:nvSpPr>
          <p:cNvPr id="8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Apakšpadome pastāv kopš 2000.gada</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Padomes sastāvu veido: valdības, Latvijas Darba devēju konfederācijas (LDDK), Latvijas Brīvo arodbiedrību savienības (LBAS) izvirzītie pārstāvji</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darbību nodrošina Labklājības ministrij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r>
              <a:rPr b="0" lang="lv-LV" sz="4000" spc="-1" strike="noStrike">
                <a:solidFill>
                  <a:srgbClr val="080808"/>
                </a:solidFill>
                <a:latin typeface="Tahoma"/>
              </a:rPr>
              <a:t> </a:t>
            </a:r>
            <a:endParaRPr b="0" lang="en-US" sz="4000" spc="-1" strike="noStrike">
              <a:solidFill>
                <a:srgbClr val="080808"/>
              </a:solidFill>
              <a:latin typeface="Tahoma"/>
            </a:endParaRPr>
          </a:p>
        </p:txBody>
      </p:sp>
      <p:sp>
        <p:nvSpPr>
          <p:cNvPr id="8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likumā</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ācību atvaļinājuma  apmaksas pilnveidi</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K noteikumu projektu „Grozījumi Ministru kabineta 2002.gada 28.maija noteikumos Nr. 219 „Kārtība, kādā atlīdzināmi ar komandējumiem un darbinieku darba braucieniem saistītie izdevumi”</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grozījumiem  MK noteikumos Nr.379 „Darba vides iekšējās uzraudzības veikšanas kārtība”</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endParaRPr b="0" lang="en-US" sz="3600" spc="-1" strike="noStrike">
              <a:solidFill>
                <a:srgbClr val="080808"/>
              </a:solidFill>
              <a:latin typeface="Tahoma"/>
            </a:endParaRPr>
          </a:p>
        </p:txBody>
      </p:sp>
      <p:sp>
        <p:nvSpPr>
          <p:cNvPr id="9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Konvenciju Nr.187 un Darba drošības un veselības aizsardzības Rekomendāciju Nr.164 par darba aizsardzības pamatjautājumiem</a:t>
            </a:r>
            <a:endParaRPr b="0" lang="en-US" sz="2800" spc="-1" strike="noStrike">
              <a:solidFill>
                <a:srgbClr val="080808"/>
              </a:solidFill>
              <a:latin typeface="Tahoma"/>
            </a:endParaRPr>
          </a:p>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95.sesijas ietvaros pieņemto Rekomendāciju par darba tiesiskajām attiecībām (Nr.198, 15.06.2006.)</a:t>
            </a:r>
            <a:endParaRPr b="0" lang="en-US" sz="28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 puse</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Iepazīstināt ar LM Darba departamenta darba plānu 2008.gadam par darba tiesību un darba aizsardzības jautājumiem</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darba aizsardzības un darba tiesisko attiecību jomā (Grozījumi darba likumā, DL 14.pants, darba aizsardzības jomas attīstības programma un pamatnostādnes u.c.)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un SDA kopēja sēde ar sociālajiem partneriem un VDI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I puse</a:t>
            </a:r>
            <a:endParaRPr b="0" lang="en-US" sz="28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aizsardzības likumā</a:t>
            </a:r>
            <a:r>
              <a:rPr b="0" lang="lv-LV"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saistībā ar MK noteikumiem </a:t>
            </a:r>
            <a:r>
              <a:rPr b="0" i="1" lang="lv-LV" sz="2800" spc="-1" strike="noStrike">
                <a:solidFill>
                  <a:srgbClr val="080808"/>
                </a:solidFill>
                <a:latin typeface="Tahoma"/>
              </a:rPr>
              <a:t>(grozījumu projekti, jaunu noteikumu izstrāde)  </a:t>
            </a:r>
            <a:r>
              <a:rPr b="0" lang="lv-LV" sz="2800" spc="-1" strike="noStrike">
                <a:solidFill>
                  <a:srgbClr val="080808"/>
                </a:solidFill>
                <a:latin typeface="Tahoma"/>
              </a:rPr>
              <a:t>darba tiesisko attiecību regulēšanas un darba aizsardzības jomā, ja strādājot šo noteikumu darba grupās radīsies kaut kādi diametrāli pretēji viedokļi, par ko nevarēs panākt vienošano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9:52:14Z</dcterms:created>
  <dc:creator>SB</dc:creator>
  <dc:description/>
  <dc:language>en-US</dc:language>
  <cp:lastModifiedBy>Sanita Diediske</cp:lastModifiedBy>
  <dcterms:modified xsi:type="dcterms:W3CDTF">2008-05-09T08:36:07Z</dcterms:modified>
  <cp:revision>8</cp:revision>
  <dc:subject/>
  <dc:title>Darba lietu trīspusējās sadarbības apakšpadome</dc:title>
</cp:coreProperties>
</file>