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190-43F2-4560-A6C4-2B784109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102-235B-4EF8-A763-BBD3129A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04F-9E5A-441C-8093-EDBFE4E6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1FB-C45C-4C3B-BDF9-323B5FA0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DD8F-D62A-4261-BC00-D7669A5E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3929-4ECF-48CF-85A4-79BCFB45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57A6-4852-4E30-A4D1-74B5026A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6779-CDB4-4280-8BD1-B8F1234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F088-3F2C-4A55-9430-18B5CFA0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0785-F18C-48F0-9DE1-70DBE15D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841E-B05D-4F2D-AA9D-B21FD839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F27-82E8-424A-B4FA-90CD596F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4507-479C-4BE8-A438-466652A3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7340-34AD-400E-9102-6345B883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7B8B-2744-43D8-B38A-BA63CF5B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BD66-4340-444D-96D8-5EF4010D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486C-F8FC-447E-B02C-FD117E61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72F-1994-496E-A296-425942D0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C98-F46B-4526-94CD-06DBA16B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550-E827-483C-B32C-18994F2A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001-F9A7-4CA0-9ABA-112221CD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B05-1636-4B0F-9388-23BB15AA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DF5-30AD-4B7A-BE53-096D454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AA2-F4F6-4656-8F2B-F452535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499-C6BC-4965-BD01-9129EF3BD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1C63-B80C-48B6-8030-E2F08CB15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cionālās trīspusējās sadarbības padomes 2007.gada darbības pārsk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TSP sekretā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Maija Lā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cionālās trīspusējās sadarbības padomes sēž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 divpusējo sarunu norise 2007.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676520"/>
          <a:ext cx="6400800" cy="434952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  <a:gridCol w="16765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p.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des/divpusējās saru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un LDDK pārstāvju sar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BAS pārstāvju sanāks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990720"/>
          <a:ext cx="7848720" cy="5624280"/>
        </p:xfrm>
        <a:graphic>
          <a:graphicData uri="http://schemas.openxmlformats.org/drawingml/2006/table">
            <a:tbl>
              <a:tblPr/>
              <a:tblGrid>
                <a:gridCol w="1143000"/>
                <a:gridCol w="67057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žu/divpusējo sarunu būtiskākie jautāj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Bulgārijas un Rumānijas pilsoņu pieeju Latvijas darba tir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Koncepciju par migrācijas politiku nodarbinātība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nimālās mēneša darba algas paaugstināšan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informatīvo ziņojumu par izdienas pensiju piešķiršan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kustamā īpašuma nodokļa pieaugumu ražojošajiem dar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ējiem un nodokļa likmes refor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MK noteikumu projektu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Grozījumi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u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ineta 2002.gada 28.maija noteikumos 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219 "Kārtība, kādā atlīdzināmi ar komandējumiem un darbinieku darba braucieniem saistītie izdevumi"" (TA-8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a grupas izstrādātajiem priekšlikumiem par minimālās   mēneša    darba algas apmēru un ar iedzīvotāju ienākuma nodokļa neapliekamā minimuma apmēr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inieku finansiālās iesaistes veicināš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2007.gada valsts budžeta grozījumu un 2008.gada valsts budžeta sagatavošanas ga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nespējas apmaksas pilnveidošanu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grācijas rīcībpolitiku darba spēka piesaiste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pieciešamību veikt grozījumus Profesionālās izglītības 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rbinātības trīspusējās sadarbības apakšpadomes (PINTSA)nolikum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905120"/>
          <a:ext cx="7925040" cy="3882960"/>
        </p:xfrm>
        <a:graphic>
          <a:graphicData uri="http://schemas.openxmlformats.org/drawingml/2006/table">
            <a:tbl>
              <a:tblPr/>
              <a:tblGrid>
                <a:gridCol w="1154160"/>
                <a:gridCol w="6770880"/>
              </a:tblGrid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informāciju par PVN likmēm (Ierobežotas pieejamības informā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atbildes uz Latvijas Brīvo arodbiedrību savienības un Latvijas Darba devēju konfederācijas jautājumiem saistībā ar likumprojekt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 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atvijas Brīvo arodbiedrību savienības pārstāvju sarunas par likumprojektu </a:t>
                      </a:r>
                      <a:r>
                        <a:rPr b="0" i="1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stībā ar darba samaksas palielināšan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zinumi par politikas plānošanas dokumentu un tiesību aktu projekt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DDK SNIEGUSI 74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BAS SNIEGUSI 66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TSP SEKRETARIĀ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PKOPOJIS, NOFORMĒJI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US UN NOSŪTĪJIS PROJEKTA IZSTRĀDĀTĀJ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ZVĒRTĒJIS VSS IZSLUDINĀŠANAI PIETEIKTOS PROJEKTUS UN PIETEICIE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641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A SNIEGŠAN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AGATAVOJIS VSS PROTOKOLU IZRAKSTUS UN NOSŪTĪJIS LDDK UN L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NIEDZIS INFORMĀCIJU PAR PRECIZĒTAJIEM PROJEKTIEM UN UZAICINĀJUMIEM UZ STARPINSTITŪCIJU SANĀKSM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11800" y="2527200"/>
            <a:ext cx="755640" cy="828720"/>
          </a:xfrm>
          <a:prstGeom prst="downArrow">
            <a:avLst>
              <a:gd name="adj1" fmla="val 50000"/>
              <a:gd name="adj2" fmla="val 2741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3440" y="259992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67440" y="2607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99440" y="2592000"/>
            <a:ext cx="0" cy="223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19440" y="259200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18780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52480"/>
            <a:ext cx="8028000" cy="7732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Nacionālā Trīspusējās sadarbības pa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NTS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pārstāvji no  katras puses: LDDK, LBAS un M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365640"/>
            <a:ext cx="5180040" cy="5158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NTSP sekretariā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4200" y="4800600"/>
            <a:ext cx="122400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ociālās droš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rina Hom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4800600"/>
            <a:ext cx="118764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Darba lietu trīspusējās sadarbības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intija Bur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2970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Profesionālās izglītības un nodarbināt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Ziediņ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2708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5944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87684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83440" y="386568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380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4800600"/>
            <a:ext cx="1187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Reģionālās attīstības apakšpadom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alda Smirn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800600"/>
            <a:ext cx="115236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ides aizsardzības lietu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Ilze Truši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9840" y="4800600"/>
            <a:ext cx="1297080" cy="121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Transporta, sakaru un informātikas lietu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Rozenšt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27080" y="256356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06720" y="3895200"/>
            <a:ext cx="54108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35080" y="385920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472160" y="3895200"/>
            <a:ext cx="71892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800600"/>
            <a:ext cx="125892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Veselības nozare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kaidrīte Vasaraud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760" y="60595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Sabiedrības inform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agatavotas 9 preses relīzes sadarbībā ar KD par: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TSP sēžu no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kārtību un pieņemtajiem lēm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http://www.mk.gov.lv/lv/mp/vaditas-padomes/nts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56:35Z</dcterms:created>
  <dc:creator>Egle</dc:creator>
  <dc:description/>
  <cp:keywords/>
  <dc:language>en-US</dc:language>
  <cp:lastModifiedBy>Sanita Diediske</cp:lastModifiedBy>
  <cp:lastPrinted>1904-01-01T00:00:00Z</cp:lastPrinted>
  <dcterms:modified xsi:type="dcterms:W3CDTF">2008-03-28T08:31:25Z</dcterms:modified>
  <cp:revision>25</cp:revision>
  <dc:subject/>
  <dc:title>Nacionālās trīspusējās sadarbības padomes 2007.gada darbības pārskats</dc:title>
</cp:coreProperties>
</file>